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5F4D-0ADD-42B4-A8EA-BA5A75F25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RCS doesn’t make recommendations, but our efforts to evaluate and reduce pest management environmental risks with mitigation must be very closely coordinated with pest management recommendations. Environmental risks must considered simultaneously with both efficacy and economics in order to develop sustainable solutions. In order to do this, we must work very closely with everyone that advises producers about pest management decis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an offer lower risk pest management alternatives that are both effective and econo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IPM Programs are the best solution, but in their absence, even many individual IPM principles can help to reduce environmental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IP can offer an incentive payment to producers to adopt reduced risk I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hecklists such as the ones developed in Massachusetts can help to document what producers are doing to justify EQIP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PM information is available on the WWW even if  local IPM support is not stro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risk mitigation must be integrated into the pest management recommendation process. It cannot be an “afterthought”. Environmental risks must considered simultaneously with both efficacy and economics in order to develop sustainable solutions. In order to do this, we must work very closely with everyone that advises producers about pest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ervation planning process can help to resolve conflicts between efficacy, economics and environmental risk considerations, for all pest management alternativ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lide: essentially speaks for it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1D21E-51E9-4747-A457-32ED224D7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721A-8F9C-4D02-9D5A-ECEC12D5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8850D-B4E3-4769-A341-C62D51D7A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2FB8F-4B5C-4E70-A6D8-9501F0E5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1E893-F3C6-4B7D-BF53-C579491BC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9EE0C-288C-4FDF-B2DB-74BD40B7C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7A14D-67C6-42D0-81E0-031D75262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328D4-9239-49C9-9D79-4F2A891D9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65AC8-577E-4614-B612-3187CD38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7AE5C-815D-44F5-92E6-A3B690682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275CE-629C-4FE7-8ACC-F204E46E5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7FDB-E0FB-444D-9115-F2FE86DE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52F8-4768-4C1D-BDCA-42CA0EA76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933F-7040-42FB-B5AE-A7928C3C7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E297-7710-4702-AC8F-00C978D96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2652D-AAB7-43C4-8EA2-83D6A95CE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69483-23B2-4FDF-B70C-397EFCA04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0885F-F98E-4CDE-ADC4-0A4954D0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79BD-A198-4764-BA45-44CC93135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A36C1-8400-48A7-A019-DF553798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5AA9-AB33-475B-97B6-8B919C1F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5447-28B2-4751-B029-0197BE32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3046-EC00-4B3C-AE75-E19224EA2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0EC8-8276-4A43-AC9A-A30F9592A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306A-5F5B-446B-BACC-9EB041CB4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1240"/>
            <a:ext cx="16905240" cy="10793520"/>
            <a:chOff x="-7761240" y="1461240"/>
            <a:chExt cx="16905240" cy="1079352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1240"/>
              <a:ext cx="13452120" cy="10793520"/>
            </a:xfrm>
            <a:custGeom>
              <a:avLst/>
              <a:gdLst/>
              <a:ahLst/>
              <a:rect l="l" t="t" r="r" b="b"/>
              <a:pathLst>
                <a:path stroke="0" w="21600" h="21600">
                  <a:moveTo>
                    <a:pt x="12405" y="120"/>
                  </a:moveTo>
                  <a:arcTo wR="10800" hR="10800" stAng="-4887058" swAng="4887058"/>
                  <a:lnTo>
                    <a:pt x="10800" y="10800"/>
                  </a:lnTo>
                  <a:close/>
                </a:path>
                <a:path fill="none" w="21600" h="21600">
                  <a:moveTo>
                    <a:pt x="12405" y="120"/>
                  </a:moveTo>
                  <a:arcTo wR="10800" hR="10800" stAng="-4887058" swAng="4887058"/>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D0F1-B57C-4D63-8FFA-A85CF7D749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pest management alternatives will developed by othe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on “Recommends” or “Suggestion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ified Crop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st Control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 Consulta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hemical Deal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M includes many pest management alternatives that reduce pesticide u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ogra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incip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in EQIP</a:t>
            </a:r>
            <a:endParaRPr b="0" lang="en-US" sz="2800" spc="-1" strike="noStrike">
              <a:solidFill>
                <a:srgbClr val="ffffff"/>
              </a:solidFill>
              <a:latin typeface="Times New Roman"/>
            </a:endParaRPr>
          </a:p>
          <a:p>
            <a:pPr lvl="2" marL="1143000" indent="-228600">
              <a:spcBef>
                <a:spcPts val="601"/>
              </a:spcBef>
              <a:buClr>
                <a:srgbClr val="00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cklist approach (Massachusetts exampl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Web Resour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a:t>
            </a:r>
            <a:r>
              <a:rPr b="0" i="1" lang="en-US" sz="3200" spc="-1" strike="noStrike" u="sng">
                <a:solidFill>
                  <a:srgbClr val="ffffff"/>
                </a:solidFill>
                <a:uFillTx/>
                <a:latin typeface="Times New Roman"/>
              </a:rPr>
              <a:t>recommendation</a:t>
            </a:r>
            <a:r>
              <a:rPr b="0" lang="en-US" sz="3200" spc="-1" strike="noStrike">
                <a:solidFill>
                  <a:srgbClr val="ffffff"/>
                </a:solidFill>
                <a:latin typeface="Times New Roman"/>
              </a:rPr>
              <a:t> decisions made?</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ner with whoever makes recommendations to address environmental risks </a:t>
            </a:r>
            <a:endParaRPr b="0" lang="en-US" sz="2800" spc="-1" strike="noStrike">
              <a:solidFill>
                <a:srgbClr val="ffffff"/>
              </a:solidFill>
              <a:latin typeface="Times New Roman"/>
            </a:endParaRPr>
          </a:p>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ations may be in conflict with natural resource protection goal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ap and effective pesticides may have high environmental risk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hemical controls such as tillage for weeds may cause excessive erosion</a:t>
            </a:r>
            <a:endParaRPr b="0" lang="en-US" sz="2800" spc="-1" strike="noStrike">
              <a:solidFill>
                <a:srgbClr val="ffffff"/>
              </a:solidFill>
              <a:latin typeface="Times New Roman"/>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y” focus on </a:t>
            </a:r>
            <a:r>
              <a:rPr b="1" i="1" lang="en-US" sz="3200" spc="-1" strike="noStrike" u="sng">
                <a:solidFill>
                  <a:srgbClr val="ffffff"/>
                </a:solidFill>
                <a:uFillTx/>
                <a:latin typeface="Times New Roman"/>
              </a:rPr>
              <a:t>Efficacy</a:t>
            </a:r>
            <a:r>
              <a:rPr b="0" lang="en-US" sz="3200" spc="-1" strike="noStrike">
                <a:solidFill>
                  <a:srgbClr val="ffffff"/>
                </a:solidFill>
                <a:latin typeface="Times New Roman"/>
              </a:rPr>
              <a:t> and </a:t>
            </a:r>
            <a:r>
              <a:rPr b="1" i="1" lang="en-US" sz="3200" spc="-1" strike="noStrike" u="sng">
                <a:solidFill>
                  <a:srgbClr val="ffffff"/>
                </a:solidFill>
                <a:uFillTx/>
                <a:latin typeface="Times New Roman"/>
              </a:rPr>
              <a:t>Economic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e” focus on </a:t>
            </a:r>
            <a:r>
              <a:rPr b="1" i="1" lang="en-US" sz="3200" spc="-1" strike="noStrike" u="sng">
                <a:solidFill>
                  <a:srgbClr val="ffffff"/>
                </a:solidFill>
                <a:uFillTx/>
                <a:latin typeface="Times New Roman"/>
              </a:rPr>
              <a:t>Environmental risks </a:t>
            </a:r>
            <a:r>
              <a:rPr b="0" lang="en-US" sz="3200" spc="-1" strike="noStrike">
                <a:solidFill>
                  <a:srgbClr val="ffffff"/>
                </a:solidFill>
                <a:latin typeface="Times New Roman"/>
              </a:rPr>
              <a:t>and appropriate mitigation strategie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a:t>
            </a:r>
            <a:r>
              <a:rPr b="1" i="1" lang="en-US" sz="3200" spc="-1" strike="noStrike" u="sng">
                <a:solidFill>
                  <a:srgbClr val="ffffff"/>
                </a:solidFill>
                <a:uFillTx/>
                <a:latin typeface="Times New Roman"/>
              </a:rPr>
              <a:t>all three</a:t>
            </a:r>
            <a:r>
              <a:rPr b="0" lang="en-US" sz="3200" spc="-1" strike="noStrike">
                <a:solidFill>
                  <a:srgbClr val="ffffff"/>
                </a:solidFill>
                <a:latin typeface="Times New Roman"/>
              </a:rPr>
              <a:t> of these must be </a:t>
            </a:r>
            <a:r>
              <a:rPr b="1" i="1" lang="en-US" sz="3200" spc="-1" strike="noStrike" u="sng">
                <a:solidFill>
                  <a:srgbClr val="ffffff"/>
                </a:solidFill>
                <a:uFillTx/>
                <a:latin typeface="Times New Roman"/>
              </a:rPr>
              <a:t>integrated</a:t>
            </a:r>
            <a:r>
              <a:rPr b="0" lang="en-US" sz="3200" spc="-1" strike="noStrike">
                <a:solidFill>
                  <a:srgbClr val="ffffff"/>
                </a:solidFill>
                <a:latin typeface="Times New Roman"/>
              </a:rPr>
              <a:t> into final pest management decision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Together</a:t>
            </a:r>
            <a:r>
              <a:rPr b="0" lang="en-US" sz="3200" spc="-1" strike="noStrike">
                <a:solidFill>
                  <a:srgbClr val="ffffff"/>
                </a:solidFill>
                <a:latin typeface="Times New Roman"/>
              </a:rPr>
              <a:t>, we must deliver an integrated message and provide appropriate incentives for implementing reduced risk alternatives.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5:19:59Z</dcterms:created>
  <dc:creator>Joseph Bagdon</dc:creator>
  <dc:description/>
  <dc:language>en-US</dc:language>
  <cp:lastModifiedBy>Eric Hesketh</cp:lastModifiedBy>
  <dcterms:modified xsi:type="dcterms:W3CDTF">2001-03-20T23:45:20Z</dcterms:modified>
  <cp:revision>12</cp:revision>
  <dc:subject/>
  <dc:title>Targeting Pest Management</dc:title>
</cp:coreProperties>
</file>