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C0B-666B-4334-88BE-13F01450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031-9AC1-42FC-BB35-4D0DC086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26B-729A-478E-A23C-2CF0CCE0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5F1-F55A-4FC2-A2C3-16780982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B722-2CDD-43A9-B655-568B2FDF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16F9-0B1A-4036-B719-7AD18B23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3D8B-C60C-4E71-95CF-1C5865ED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23AC-3EAB-4B41-95D3-688C18E8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1FEB-CFE7-4665-A210-4BFFFAD8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87D1-6CD0-41FA-B12A-764D740D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2915-DCFF-4188-82B0-13669270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F58-1E85-45CC-B810-0C37DDBA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E90D-566E-4683-906D-EA9CB628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3E89-0495-41A9-BB04-EA2C370F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B40D-5DDE-4BD1-97CA-4D09A31A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DF03-0B86-49E4-A5DF-CFC846C8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A5F0-2C8F-4902-8B09-624FC2E7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DE0-493F-486E-A7B3-6757F289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AE6-5CDE-4D24-B6D6-DA2E0B1C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E2E-5FA1-4A83-8B44-A91AD260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F44-52B5-499B-82FA-EB23AEE6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FFA-3129-4648-BCCA-21AC59E5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0EF-5BB5-4B27-8AF8-861DD8F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034-7F6B-4F08-879C-28C8B5EC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6373-031C-4451-8AE9-4B3FAA3A0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F533-A86F-475A-B5FE-548ABB7DF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ing NRC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No Spray Zone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s in all environmentally sensitive area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724280" y="2286000"/>
          <a:ext cx="3505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86000"/>
                    <a:ext cx="3505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Priority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GS, State Agencies, Agrichemical Compan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ory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M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D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ope of NRCS pest management activities will vary widely across the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nce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resource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y resource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r local reg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Monito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ulnerable/Sensitive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Use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rity of Re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ct 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Technical Committee 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Government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Share or Incentive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ility of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s of Low IPM Ad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t Outbrea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ing Commod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dity Group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p Protection Industry Suppo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not succeed alone. We need to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velop and mainta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ery close t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p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Agricultur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dity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ichemical Dea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one else who influences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” focus o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ffica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cono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” focus o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nvironmental risk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ppropriate mitigation strate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se must b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teg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o final pest management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e must deliver an integrated message and provide appropriate incentives for implementing reduced risk alternativ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st Management Certification (NRCS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one ca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velop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st management component of a conservation pl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rtif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only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quir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pest management component of a conservation pl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certification is for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servation Plann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t Pest Advisors, although there may be some overlapping requiremen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5:19:59Z</dcterms:created>
  <dc:creator>Joseph Bagdon</dc:creator>
  <dc:description/>
  <dc:language>en-US</dc:language>
  <cp:lastModifiedBy>Joseph Bagdon</cp:lastModifiedBy>
  <dcterms:modified xsi:type="dcterms:W3CDTF">2001-02-22T19:11:02Z</dcterms:modified>
  <cp:revision>7</cp:revision>
  <dc:subject/>
  <dc:title>Targeting Pest Management</dc:title>
</cp:coreProperties>
</file>