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EB65-28D9-492B-AF82-53631FF7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DCA-1401-45C8-8A41-4B1BA1B0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28D-B8D8-40F5-9E73-4243A879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1AA-02E1-4C67-8D1C-1C57A72A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5372-01C0-41A5-A613-5B5CD682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640E-3706-49BC-9F4B-8DD6F5CF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3838-AD86-47DA-BCFC-83D5D600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C559-A6C9-41BB-8F7C-142E53C2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332D-DB4E-4E36-B8A5-D425AC89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BA4A-0B69-4CA6-A7E7-2D9D7270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B636-E88F-48CB-A91A-F21AC527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3A7-5983-48EF-B5DE-DE5052F6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A6AF-6E13-4BEA-B2E9-1F1C203E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01C6-5EA5-41F9-A203-50E968FB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2A28-5539-45C0-8E4E-264F8729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3FC7-E102-4C98-A51D-E9641BD2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B6FD-44C1-4C8F-9F81-07EDEE33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6BB-EBDC-4F93-A22C-39050F1B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A7D-BA48-4885-B2B4-4F08B94B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21E-33E1-4BEB-A620-BA3F52AD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C09-FF87-448B-A878-BB089630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5FC-6A8B-418D-B950-20D00712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BA5-EA46-44C7-A77F-3A3F3AAD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8DC-F1F1-46D9-B4B7-659F2CFB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A974-8C7B-42A7-9468-F61F7C8FC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719F-65A8-4EF1-9B71-EACA0B546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dows Pesticide Screening Tool 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Water and Climate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herst, 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PRA (National Agricultural Pesticide Risk Analysis) Tea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Bagdon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st Management Specia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ic Hesketh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oil Scient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ity of Massachusetts Ex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ve Plotk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Q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a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gan Hug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oftware Engine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-PST is Pesticide Screening Too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to u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con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sticid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s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xicity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risk rating class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e.g., High, Intermediate, Low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planners determine when mitigation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for NRCS Field Office use 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1760" y="228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PU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ISP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ching Los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rface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iar Applic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N-P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 indent="-1771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ISP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ching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sorbed Lo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rp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in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ox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1760" y="228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CS-P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ISP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c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 Runof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sorbed lo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ossib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s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N-P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 indent="-1771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ISP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ching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sorbed Lo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rp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in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ox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s SPISP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il/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sticid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teraction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reening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cedure version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s Management and Toxic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SP 1  in  NRCS field offices 198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PURG  uses SPISP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91120" y="3429000"/>
            <a:ext cx="485640" cy="1752480"/>
          </a:xfrm>
          <a:prstGeom prst="downArrow">
            <a:avLst>
              <a:gd name="adj1" fmla="val 50000"/>
              <a:gd name="adj2" fmla="val 90215"/>
            </a:avLst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79440" y="1066680"/>
            <a:ext cx="22590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il Rating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1066680"/>
            <a:ext cx="2997360" cy="1068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sticide Ra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69280" y="2666880"/>
            <a:ext cx="313560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ction R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886200"/>
            <a:ext cx="160020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x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6960" y="5334120"/>
            <a:ext cx="283248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zard Ra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374200">
            <a:off x="2590920" y="19810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7774200">
            <a:off x="5105160" y="19810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action” Hazard Catego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04920" y="4952880"/>
            <a:ext cx="8381880" cy="1371600"/>
            <a:chOff x="304920" y="4952880"/>
            <a:chExt cx="8381880" cy="1371600"/>
          </a:xfrm>
        </p:grpSpPr>
        <p:sp>
          <p:nvSpPr>
            <p:cNvPr id="123" name=""/>
            <p:cNvSpPr/>
            <p:nvPr/>
          </p:nvSpPr>
          <p:spPr>
            <a:xfrm>
              <a:off x="304920" y="4952880"/>
              <a:ext cx="8381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spcBef>
                  <a:spcPts val="799"/>
                </a:spcBef>
                <a:buClr>
                  <a:srgbClr val="00ff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00"/>
                  </a:solidFill>
                  <a:latin typeface="Times New Roman"/>
                </a:rPr>
                <a:t>Lo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spcBef>
                  <a:spcPts val="799"/>
                </a:spcBef>
                <a:buClr>
                  <a:srgbClr val="00ff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00"/>
                  </a:solidFill>
                  <a:latin typeface="Times New Roman"/>
                </a:rPr>
                <a:t>Very Low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    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spcBef>
                  <a:spcPts val="7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8120" y="5181480"/>
              <a:ext cx="685800" cy="83844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257800"/>
              <a:ext cx="42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00"/>
                  </a:solidFill>
                  <a:latin typeface="Times New Roman"/>
                </a:rPr>
                <a:t>Mitigation not necessar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04920" y="411480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lvl="1" marL="564480" indent="-217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mediat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tigation - basic lev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(1 or 2 practi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514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ra High    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itigation may no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2004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tigation - higher lev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 or more practi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duc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g. producers- hazards of pesticide lo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s that influence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s that influence ‘hazar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tentially high risk soil/pesticide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sig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apply conservation practices &amp; mitigation techniques that reduce hazardous pesticide lo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4:10:19Z</dcterms:created>
  <dc:creator>Eric Hesketh</dc:creator>
  <dc:description/>
  <dc:language>en-US</dc:language>
  <cp:lastModifiedBy>Eric Hesketh</cp:lastModifiedBy>
  <cp:lastPrinted>2000-03-09T18:36:41Z</cp:lastPrinted>
  <dcterms:modified xsi:type="dcterms:W3CDTF">2001-03-20T23:48:16Z</dcterms:modified>
  <cp:revision>14</cp:revision>
  <dc:subject/>
  <dc:title>Windows Pesticide Screening Tool WIN-PST</dc:title>
</cp:coreProperties>
</file>