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B45-C585-4DDB-A34E-483089A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0D4-5F12-49A5-A4F5-4385E2D4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E65-939C-4BF4-904B-0E50E48B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9CB-D07A-4239-A41A-18613CC2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D17E-ADDE-4DFC-8B1A-01632B8E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865-F3BB-4F47-88C3-F826F8F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B0C3-CAA9-45DA-BAE4-CFF1F2D9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128C-F552-416B-A933-9CCCA67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25D-3DE5-4506-B508-CA716475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C2E-CCC7-4935-94AE-1377C95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323F-7762-4019-9951-DB58E31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65A-C5AD-4389-B5A8-97CD3F3E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C2E-4A21-4FC6-B435-D7D2CB4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A02D-BC82-49B7-AAD6-2D89C1E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2606-3961-4B4C-833A-113E6F38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2FA6-E410-42EC-A32E-C41EDD38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43F4-2AE8-4687-B799-1AB35DD2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25E-1B01-490B-93BF-E23E15E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8DC-89D2-404C-86F1-C3F31CFF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C6-EB45-4EE7-83F5-968040D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B82-E5DC-4B0A-B382-695ABF4B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185-321F-4DEC-B8DA-E0FC9F4D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BC9-7D64-4023-8B59-62A7697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FBE-F72A-4528-94BC-85ED04A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2E6-8A37-4312-8362-AB2D9B3F6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0520-F39A-4308-940B-381D053AA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ecreasing hazards from non-point source pesticide contamination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 ways to approach hazard redu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pesticides differen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ate, delayed application,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crops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rotation, planting dates,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ff-site pesticide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fers, Water management, Crop residu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dr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ing spray equipment (droplet siz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apply in windy condi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application toward target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erial applications or mist b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wick applicators or other targeting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field conservation techniques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 movement of water, chemicals and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 sediment within the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urage infiltration within the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across the slop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on the contou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strip cr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buffer 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pplying pesticide before a heavy rainfal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efficient irrigatio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lea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pesticide application to coincide with irrig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gate judici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ing pesticide efficacy reduces overall use of pesticides, and off-target movement is less likely to occu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roved Pesticide Application BMPs for Groundwater Protection from Pestic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DSU Extension Service, North Dakota Stat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eld (banding, spot  treat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‘leachable’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using high leaching pesticide on high leaching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‘driver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pesticide application before st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 irrigation to prevent leaching (and run-o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soil organic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 surface connected macrop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hazardou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led (banding, spot  trea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soil organic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 - 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ing soi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llage direction (contou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p cr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enting/disturbing soil cru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 sub-surface drain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ching pesticides at field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 (filter) str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ention  p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ed wet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sed water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Mitigating non-point source pesticide contamin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ypically mitigation measur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pesticide application lbs/ac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less hazardous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moving away from point of efficacy (in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leaving field  (bottom of root zone - edge of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does not “recommend” any pesticide, rate, formulation, or ti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hanges in pesticide management must be done with the help of Extension and crop consult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Pest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only when economic threshold is re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pest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ood sanitation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op rotation or delayed pla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lants healthy and vigo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st effective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 part of the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treatments that rely mainly on residual activity for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pre-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l application to control spring w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ost-emergent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directed spr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r application rate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mixtures of low rate pesticides instead of a single pesticide at a high r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maintenance and calibration of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tilize pesticides that are less environmentally hazardou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an help determ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he field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haz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e pesticide recommendations to produ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with Extension or other crop advisors to help them include environmental risk in their recommen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s which move away from their target can no longer control the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ion (decreases runof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mobile pesti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v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6:59:29Z</dcterms:created>
  <dc:creator>Eric Hesketh</dc:creator>
  <dc:description/>
  <dc:language>en-US</dc:language>
  <cp:lastModifiedBy>Joseph Bagdon</cp:lastModifiedBy>
  <dcterms:modified xsi:type="dcterms:W3CDTF">2001-02-22T19:54:17Z</dcterms:modified>
  <cp:revision>18</cp:revision>
  <dc:subject/>
  <dc:title>Mitigation: Decreasing hazards from non-point pesticide contamination</dc:title>
</cp:coreProperties>
</file>