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62B-55D0-4AB5-B52D-04FE5336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B65-D252-47AF-B4BA-5D021FB0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034-3786-44FE-9B0E-FE094CEC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BB4A-4788-428F-92B3-D9522DFF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25C0-B520-4681-94C9-F831FCBD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B240-476A-4919-9C03-3EE09C3B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2109-5402-4288-8407-9FFECFE3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5C44-CC45-4DAF-AFE0-B26B70F3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16DF-74DF-45F2-91F5-FB47445F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D98F-1460-48CE-891F-44884189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83BC-D1CA-4F52-814D-526177C0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024-857D-4D3B-930B-3780A775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F608-4C5D-477B-849A-94773926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8FD5-D59F-4933-8B66-75485039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076D-D0DC-4964-8FF6-1EFD5B45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DF63-E45C-4FDA-ADA6-E39CE845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2AD1-114C-40C5-9428-7186D409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0DE-9307-4A2E-AE88-329B926B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F895-5460-4C1D-8AD0-A9951394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3CF-1D49-497D-BB8E-E924A797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538-73F0-456C-81AA-6A1BFF8C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E7C-C4F9-4F02-BAD5-5D9E81D2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A3B-844A-489F-8FB7-A094037F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07A4-C9F8-42CF-89E5-DA757F3F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5D07-8052-47CC-9880-0880F15863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BBF4-BC4D-4F0F-BD99-E854B4CAB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dows Pesticide Screening Tool 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Water and Climate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herst, 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PRA (National Agricultural Pesticide Risk Analysis) Tea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Bagdon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st Management Specia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ic Hesketh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oil Scient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ity of Massachusetts Ex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ve Plotk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Q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a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gan Hug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oftware Engine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-PST is Pesticide Screening Too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to u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con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sticid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s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xicity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risk rating class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e.g., High, Intermediate, Low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planners determine when mitigation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for NRCS Field Office use 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1760" y="228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PU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ISP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ching Los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rface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iar Applic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N-P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 indent="-1771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ISP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ching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sorbed Lo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rp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in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ox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1760" y="228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CS-P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ISP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c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 Runof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sorbed lo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ossib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s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N-P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 indent="-1771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ISP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ching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sorbed Lo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rp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in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ox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s SPISP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il/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sticid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teraction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reening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cedure version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s Management and Toxic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SP 1  in  NRCS field offices 198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PURG  uses SPISP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91120" y="3429000"/>
            <a:ext cx="485640" cy="1752480"/>
          </a:xfrm>
          <a:prstGeom prst="downArrow">
            <a:avLst>
              <a:gd name="adj1" fmla="val 50000"/>
              <a:gd name="adj2" fmla="val 90215"/>
            </a:avLst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79440" y="1066680"/>
            <a:ext cx="22590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il Rating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1066680"/>
            <a:ext cx="2997360" cy="1068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sticide Ra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69280" y="2666880"/>
            <a:ext cx="313560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ction R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886200"/>
            <a:ext cx="160020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x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6960" y="5334120"/>
            <a:ext cx="283248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zard Ra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374200">
            <a:off x="2590920" y="19810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7774200">
            <a:off x="5105160" y="19810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action” Hazard Catego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04920" y="4952880"/>
            <a:ext cx="8381880" cy="1371600"/>
            <a:chOff x="304920" y="4952880"/>
            <a:chExt cx="8381880" cy="1371600"/>
          </a:xfrm>
        </p:grpSpPr>
        <p:sp>
          <p:nvSpPr>
            <p:cNvPr id="123" name=""/>
            <p:cNvSpPr/>
            <p:nvPr/>
          </p:nvSpPr>
          <p:spPr>
            <a:xfrm>
              <a:off x="304920" y="4952880"/>
              <a:ext cx="8381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spcBef>
                  <a:spcPts val="799"/>
                </a:spcBef>
                <a:buClr>
                  <a:srgbClr val="00ff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00"/>
                  </a:solidFill>
                  <a:latin typeface="Times New Roman"/>
                </a:rPr>
                <a:t>Lo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spcBef>
                  <a:spcPts val="799"/>
                </a:spcBef>
                <a:buClr>
                  <a:srgbClr val="00ff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00"/>
                  </a:solidFill>
                  <a:latin typeface="Times New Roman"/>
                </a:rPr>
                <a:t>Very Low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    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spcBef>
                  <a:spcPts val="7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8120" y="5181480"/>
              <a:ext cx="685800" cy="83844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257800"/>
              <a:ext cx="42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00"/>
                  </a:solidFill>
                  <a:latin typeface="Times New Roman"/>
                </a:rPr>
                <a:t>Mitigation not necessar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04920" y="411480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lvl="1" marL="564480" indent="-217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mediat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tigation - basic lev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(1 or 2 practi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514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ra High    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itigation may no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2004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tigation - higher lev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 or more practi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duc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g. producers- hazards of pesticide lo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s that influence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s that influence ‘hazar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tentially high risk soil/pesticide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sig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apply conservation practices &amp; mitigation techniques that reduce hazardous pesticide lo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4:10:19Z</dcterms:created>
  <dc:creator>Eric Hesketh</dc:creator>
  <dc:description/>
  <dc:language>en-US</dc:language>
  <cp:lastModifiedBy>Eric Hesketh</cp:lastModifiedBy>
  <cp:lastPrinted>2000-03-09T18:36:41Z</cp:lastPrinted>
  <dcterms:modified xsi:type="dcterms:W3CDTF">2001-03-20T23:48:16Z</dcterms:modified>
  <cp:revision>14</cp:revision>
  <dc:subject/>
  <dc:title>Windows Pesticide Screening Tool WIN-PST</dc:title>
</cp:coreProperties>
</file>