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D07-40D6-4EB4-9361-C3536E37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2ED-9145-4FD2-952C-3925A845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58A-DB8C-4845-A732-875E4112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A89-074D-4CBC-BC80-950C49DC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B543-2277-442B-80EF-AB341ABB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2034-6B4D-41E2-9845-4774A7A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703F-72C6-4AD5-89DA-9972B896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C174-EA52-466E-AF1F-20B1C363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02C9-5A36-4DFB-AD3D-70B42313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4A89-49DC-4664-B18A-3D9A9C2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0BED-794A-4B4A-9DF4-DF976D3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377-76D8-41FA-A138-EA25969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3908-C7C8-428A-BC75-9B59DED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587-52F0-4050-9295-3F8502E5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0182-8C8C-4BE8-8175-3610DB4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0CEE-954E-48F1-BC7C-7F5431C8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13CB-CAEC-4F57-9606-F5FA5E2C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4CF-DFF6-4344-AB5D-25CF7CF6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93D-6012-44C2-A7E5-BAC9B31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B20-C1FD-4582-BCDE-1F5A72F5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7E2-1BCF-453A-8FD9-959068F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B21-AA13-4EDA-9456-CCF8275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097-0D3A-4E96-882A-9CE4992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BFA-3587-4B69-A093-958E07E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9FC6-539A-481C-BFD5-C5F8C90D1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17D-648C-4C1D-8926-E2E482E7B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ing NRC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No Spray Zone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in all environmentally sensitive area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724280" y="2286000"/>
          <a:ext cx="3505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0"/>
                    <a:ext cx="3505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riority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GS, State Agencies, Agrichemical Compan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ory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M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D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ope of NRCS pest management activities will vary widely across the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nce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resource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y re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r local 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Monito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ulnerable/Sensitive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Use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rity of Re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ct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Technical Committee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Government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Share or Incentive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of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s of Low IPM Ad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 Outbr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Commod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dity Group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p Protection Industry Suppo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not succeed alone. We need t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velop and mainta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ery close t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Agricultur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dity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ichemical Dea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one else who influences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” focus o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ffica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cono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” focus o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vironmental risk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ppropriate mitigation strate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se must b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eg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o final pest management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e must deliver an integrated message and provide appropriate incentives for implementing reduced risk alternativ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st Management Certification (NRCS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one ca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velo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st management component of a conserva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rtif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nly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quir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pest management component of a conserva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certification is fo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servation Plann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t Pest Advisors, although there may be some overlapping requiremen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5:19:59Z</dcterms:created>
  <dc:creator>Joseph Bagdon</dc:creator>
  <dc:description/>
  <dc:language>en-US</dc:language>
  <cp:lastModifiedBy>Joseph Bagdon</cp:lastModifiedBy>
  <dcterms:modified xsi:type="dcterms:W3CDTF">2001-02-22T19:11:02Z</dcterms:modified>
  <cp:revision>7</cp:revision>
  <dc:subject/>
  <dc:title>Targeting Pest Management</dc:title>
</cp:coreProperties>
</file>