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542-5651-4D18-AE1E-1297B065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4DE-98B6-4A44-B7E8-30991038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2F6-9369-45DA-B29F-AFD91D55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810B-AED1-41DF-B921-E5180B2C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9A92-3E4B-4CBF-BA73-45A4A9B6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E621-8B28-41B2-9A61-A5712410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44ED-796E-48C2-8B91-1E67CDF2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4C15-8D19-4EB2-93F2-CB4C7FC7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EFBD-D829-4A74-89E8-3F5F9A0F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0235-07E7-4FA1-BC83-AE99F4DC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3B88-2EE9-4BCC-9DB8-24DEAF50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9D59-51A8-4AD4-BDBF-00275633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BE22-5454-475A-B249-9046CB0C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808F-14A5-47AD-98C7-E2C1EF7B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9F71-7CD3-4695-9B99-46602282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6682-8081-41A2-9DA7-A66D9067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07BE-4CE6-448E-BE35-8A32C23F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DC8-97A6-4CB7-ABE6-2D66B037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7201-545E-4740-9F4A-34A8C6AF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AD96-345E-4AE3-800B-ABFE5659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818-24E3-4588-83D2-FB9452F8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E3C5-EDCA-4193-9F85-DA8EE27C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73CC-A203-4DEE-9312-73CCA7E0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285D-84D1-421A-803B-BE4F8C85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C535-4C2D-43EB-9AD2-30F744657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FA01-D909-4F77-81C4-4A058FE1C7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Decreasing hazards from non-point source pesticide contamination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in ways to approach hazard reducti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 pesticides different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d rate, delayed application, substit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 crops differe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p rotation, planting dates, resistant varie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off-site pesticide m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ffers, Water management, Crop residue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moving away from point of efficacy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rease dr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justing spray equipment (droplet siz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apply in windy condi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 application toward target p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 aerial applications or mist blow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wick applicators or other targeting technolo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moving away from point of efficacy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field conservation techniques 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ow movement of water, chemicals and s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p sediment within the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ourage infiltration within the fiel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sidu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arming “across the slope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arming “on the contou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our strip cr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our buffer 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moving away from point of efficacy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 applying pesticide before a heavy rainfall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 efficient irrigation techn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ize lea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ize run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 pesticide application to coincide with irrig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migate judici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moving away from point of efficacy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ing pesticide efficacy reduces overall use of pesticides, and off-target movement is less likely to occur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mproved Pesticide Application BMPs for Groundwater Protection from Pestic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DSU Extension Service, North Dakota Stat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leaving field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(bottom of root zone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ctices that decrease leac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less pestici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nomic thresh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st effective 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r rate pestici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y to less of the field (banding, spot  treatmen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tch to less ‘leachable’ pestic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 using high leaching pesticide on high leaching s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leaving field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(bottom of root zone)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ctices that decrease leach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r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‘driver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 pesticide application before st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 irrigation to prevent leaching (and run-of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fil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 soil organic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urb surface connected macropo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tch to less hazardous pestic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leaving field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(edge of field)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less pestic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nomic thresh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st effective 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r rate pestici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y to less of the filed (banding, spot  treat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il incorpora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s that increase infil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field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55840" indent="-2077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idue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55840" indent="-2077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reasing soil organic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55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leaving field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(bottom of root zone - edge of field)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s that increase infiltration (continu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fiel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ntaining soi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llage direction (contou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p cro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venting/disturbing soil cru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tain sub-surface drain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leaving field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(edge of field)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ching pesticides at field 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ffer (filter) strip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ention  p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ructed wetla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ssed waterw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Mitigating non-point source pesticide contaminat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ypically mitigation measur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pesticide application lbs/ac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ze less hazardous pestic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 pesticide from moving away from point of efficacy (in fie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 pesticide from leaving field  (bottom of root zone - edge of fie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ducing pesticide application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RCS does not “recommend” any pesticide, rate, formulation, or ti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hanges in pesticide management must be done with the help of Extension and crop consulta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ducing pesticide application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Pest Manage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 only when economic threshold is reac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pest resistant varie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good sanitation pract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crop rotation or delayed pla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ducing pesticide application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plants healthy and vigor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owest effective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y to part of the fie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ot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ducing pesticide application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treatments that rely mainly on residual activity for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ly pre-pl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ll application to control spring w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post-emergent treat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ze directed spray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ower application rate pestic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ducing pesticide application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mixtures of low rate pesticides instead of a single pesticide at a high ra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al substit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er maintenance and calibration of 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tilize pesticides that are less environmentally hazardou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RCS can help determi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t the field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pesticide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pesticide haz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RC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oes 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ake pesticide recommendations to produc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rk with Extension or other crop advisors to help them include environmental risk in their recommend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moving away from point of efficacy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sticides which move away from their target can no longer control the p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il Incorporation (decreases runof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less mobile pestic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juv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6T16:59:29Z</dcterms:created>
  <dc:creator>Eric Hesketh</dc:creator>
  <dc:description/>
  <dc:language>en-US</dc:language>
  <cp:lastModifiedBy>Joseph Bagdon</cp:lastModifiedBy>
  <dcterms:modified xsi:type="dcterms:W3CDTF">2001-02-22T19:54:17Z</dcterms:modified>
  <cp:revision>18</cp:revision>
  <dc:subject/>
  <dc:title>Mitigation: Decreasing hazards from non-point pesticide contamination</dc:title>
</cp:coreProperties>
</file>